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53D80-2060-42DB-B0DE-3768CD7F6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56A1-84BD-4141-B401-E4CDB102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F826-4B5A-439D-BB8E-2FE13CE73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643C7-3DD7-4D9F-B132-7963DD62D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07495-5188-404B-B28A-68DF91BBF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0B40B-EC4B-446D-94E1-5D206E6A8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35691-FFB9-481C-9D31-632A02F0D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459FF-DA95-4B79-9EB5-9C20C51E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4D0CB-D8A1-4AB5-BAB9-670C57BB8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E6984-FBAF-46FB-A3EA-F61CE85E0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7E3FC-1FBA-442F-B795-981666B5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A024-830F-4AD9-B577-6D43DE5F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C2689-76DF-4238-89DD-D466D4F3F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1B5BB-B0E3-4E42-94B1-0FA1756D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E023D-59D0-44CB-8F91-049065206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8C053-5138-454A-8B43-91331B33E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546E8-B549-4A9E-9283-4F7B39C5C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8BE51-CB68-40B0-8F23-8390D6D6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BFCEE-7A24-49C1-9523-35C101F1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4F225-80AF-4E7B-82E0-DC07EDD9E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3D5A6-4300-4B5B-A76C-640EEA57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F6B2-6648-41E6-B09E-0284626C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708B2-4012-40A0-AC4B-AD81B1C0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5577-8527-44E4-AFFF-9DE6081CA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8643-917D-4564-818D-73904E2880F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DDB6-84B4-457A-9048-C7B2913B726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776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comic"/>
              </a:rPr>
              <a:t>Oslo Accords</a:t>
            </a:r>
            <a:endParaRPr b="1" lang="en-US" sz="6600" spc="-1" strike="noStrike">
              <a:solidFill>
                <a:srgbClr val="b9efee"/>
              </a:solidFill>
              <a:latin typeface="Garamond"/>
            </a:endParaRPr>
          </a:p>
        </p:txBody>
      </p:sp>
      <p:sp>
        <p:nvSpPr>
          <p:cNvPr id="115" name="PlaceHolder 2"/>
          <p:cNvSpPr>
            <a:spLocks noGrp="1"/>
          </p:cNvSpPr>
          <p:nvPr>
            <p:ph type="subTitle"/>
          </p:nvPr>
        </p:nvSpPr>
        <p:spPr>
          <a:xfrm>
            <a:off x="11430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pic Fail” of Peace Treaties</a:t>
            </a:r>
            <a:endParaRPr b="0" lang="en-US" sz="3200" spc="-1" strike="noStrike">
              <a:solidFill>
                <a:srgbClr val="ffffff"/>
              </a:solidFill>
              <a:latin typeface="Garamond"/>
            </a:endParaRPr>
          </a:p>
        </p:txBody>
      </p:sp>
      <p:pic>
        <p:nvPicPr>
          <p:cNvPr id="116" name="" descr=""/>
          <p:cNvPicPr/>
          <p:nvPr/>
        </p:nvPicPr>
        <p:blipFill>
          <a:blip r:embed="rId2"/>
          <a:stretch/>
        </p:blipFill>
        <p:spPr>
          <a:xfrm rot="19501200">
            <a:off x="685800" y="1142640"/>
            <a:ext cx="2705040" cy="1803240"/>
          </a:xfrm>
          <a:prstGeom prst="rect">
            <a:avLst/>
          </a:prstGeom>
          <a:ln w="0">
            <a:noFill/>
          </a:ln>
        </p:spPr>
      </p:pic>
      <p:pic>
        <p:nvPicPr>
          <p:cNvPr id="117" name="" descr=""/>
          <p:cNvPicPr/>
          <p:nvPr/>
        </p:nvPicPr>
        <p:blipFill>
          <a:blip r:embed="rId3"/>
          <a:stretch/>
        </p:blipFill>
        <p:spPr>
          <a:xfrm rot="2242200">
            <a:off x="5011200" y="1058400"/>
            <a:ext cx="2895840" cy="1654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SWER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9600" spc="-1" strike="noStrike">
                <a:solidFill>
                  <a:srgbClr val="ffffff"/>
                </a:solidFill>
                <a:latin typeface="Garamond"/>
              </a:rPr>
              <a:t>	</a:t>
            </a:r>
            <a:r>
              <a:rPr b="0" lang="en-US" sz="9600" spc="-1" strike="noStrike">
                <a:solidFill>
                  <a:srgbClr val="ffffff"/>
                </a:solidFill>
                <a:latin typeface="Garamond"/>
              </a:rPr>
              <a:t>AMAZING</a:t>
            </a:r>
            <a:endParaRPr b="0" lang="en-US" sz="9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305920" cy="147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b9efee"/>
                </a:solidFill>
                <a:latin typeface="Garamond"/>
              </a:rPr>
              <a:t>The Oslo Accords Treaty- </a:t>
            </a:r>
            <a:r>
              <a:rPr b="0" lang="en" sz="3600" spc="-1" strike="noStrike">
                <a:solidFill>
                  <a:srgbClr val="b9efee"/>
                </a:solidFill>
                <a:latin typeface="Garamond"/>
              </a:rPr>
              <a:t>created to settle the difference between Israelis and Palestinians</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19"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Officially named the Declaration of Principles on Interim Self-Government Arrangements or Declaration of Principles (DOP)</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onducted in Oslo, Norway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ompleted by August 20, 199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0" name="" descr=""/>
          <p:cNvPicPr/>
          <p:nvPr/>
        </p:nvPicPr>
        <p:blipFill>
          <a:blip r:embed="rId2"/>
          <a:stretch/>
        </p:blipFill>
        <p:spPr>
          <a:xfrm>
            <a:off x="6400800" y="3886200"/>
            <a:ext cx="183996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first intifada in 1987 caused president George H.W. Bush  to arrange the Madrid Peace Conference in 1991 between Arab nations and Israel, but it did not succeed</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orway’s foreign ministry arranged meetings between </a:t>
            </a:r>
            <a:r>
              <a:rPr b="0" lang="en-US" sz="2800" spc="-1" strike="noStrike">
                <a:solidFill>
                  <a:srgbClr val="ffffff"/>
                </a:solidFill>
                <a:latin typeface="Garamond"/>
              </a:rPr>
              <a:t>Yair Hirshfeld and Ron Pundak from Israel(Shimon Peres later took charge)and Ahmad Sulayman Qurai (Abu Ala). Negotiated for the Palestinian Liberation Organization(PL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b9efee"/>
                </a:solidFill>
                <a:latin typeface="Garamond"/>
              </a:rPr>
              <a:t>What did it say?</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it set out specific steps to reach a permanent agreement for peace after five years</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Arabs wanted: self-governed Palestinian land, the IDF to be taken out of the Gaza Strip and West Bank, Israel to recognize the Palestinian Liberation Organization (PLO) as the Palestinian representativ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Israelis wanted: the Palestinians to acknowledge the fact that Israel had the right to be an independent state, the Palestinians to renounce terrorism and their desire for the destruction of the Israeli state.</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y agreed to set up a Committee for economic cooperation that united Palestinians and Israelis in economic issues</a:t>
            </a:r>
            <a:endParaRPr b="0" lang="en-US" sz="2400" spc="-1" strike="noStrike">
              <a:solidFill>
                <a:srgbClr val="ffffff"/>
              </a:solidFill>
              <a:latin typeface="Garamond"/>
            </a:endParaRPr>
          </a:p>
          <a:p>
            <a:pPr marL="332640" indent="-3326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y agreed to have elections for a Palestinian council</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4038480" cy="315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Israeli soldiers were to be taken out of the Gaza Strip and the West Bank.</a:t>
            </a:r>
            <a:endParaRPr b="1" lang="en-US" sz="2800" spc="-1" strike="noStrike">
              <a:solidFill>
                <a:srgbClr val="b9efee"/>
              </a:solidFill>
              <a:latin typeface="Garamond"/>
            </a:endParaRPr>
          </a:p>
        </p:txBody>
      </p:sp>
      <p:pic>
        <p:nvPicPr>
          <p:cNvPr id="126" name="" descr=""/>
          <p:cNvPicPr/>
          <p:nvPr/>
        </p:nvPicPr>
        <p:blipFill>
          <a:blip r:embed="rId2"/>
          <a:stretch/>
        </p:blipFill>
        <p:spPr>
          <a:xfrm>
            <a:off x="4724280" y="380880"/>
            <a:ext cx="313380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amifications and Reactions</a:t>
            </a:r>
            <a:endParaRPr b="1" lang="en-US" sz="4400" spc="-1" strike="noStrike">
              <a:solidFill>
                <a:srgbClr val="b9efee"/>
              </a:solidFill>
              <a:latin typeface="Garamond"/>
            </a:endParaRPr>
          </a:p>
        </p:txBody>
      </p:sp>
      <p:sp>
        <p:nvSpPr>
          <p:cNvPr id="12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No one was forced from their homes as a result of the treaty because it was not a final agreement, the people that were there(though the majority was Palestinians already)could stay if they so desired at their own risk.</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No specific cost for the removal of Israeli troops from the West Bank and Gaza strip, but it was extremely costly</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61 Knesset members voted for the decision, 50 voted against and 8 abstained</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Hamas, Palestinian Islamic Jihad and thePopular Front for the Liberation of Palestine objected to the accords because they refused to recognize Israel's right to exist in Plaestine.</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After the signing, the attacks against Israel intensified</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February 1994, an Israeli, Baruch Goldstein, killed twenty-nine Palestinians at a mosque in the West Bank.</a:t>
            </a:r>
            <a:endParaRPr b="0" lang="en-US" sz="2000" spc="-1" strike="noStrike">
              <a:solidFill>
                <a:srgbClr val="ffffff"/>
              </a:solidFill>
              <a:latin typeface="Garamond"/>
            </a:endParaRPr>
          </a:p>
          <a:p>
            <a:pPr marL="315360" indent="-31536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ebruary and March 1996, Hamas, which had gained support after the signing of the Oslo Accords, conducted a series of suicide bombings in Israel that killed fifty-seven Israelis. This prompted Shimon Peres, the prime minister at the time, to break off the peace talks that were supposed to occur</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igning</a:t>
            </a:r>
            <a:endParaRPr b="1" lang="en-US" sz="4400" spc="-1" strike="noStrike">
              <a:solidFill>
                <a:srgbClr val="b9efee"/>
              </a:solidFill>
              <a:latin typeface="Garamond"/>
            </a:endParaRPr>
          </a:p>
        </p:txBody>
      </p:sp>
      <p:sp>
        <p:nvSpPr>
          <p:cNvPr id="130"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Garamond"/>
              </a:rPr>
              <a:t>It as signed by </a:t>
            </a:r>
            <a:r>
              <a:rPr b="0" lang="en-US" sz="2000" spc="-1" strike="noStrike">
                <a:solidFill>
                  <a:srgbClr val="ffffff"/>
                </a:solidFill>
                <a:latin typeface="Garamond"/>
              </a:rPr>
              <a:t>Israeli Foreign Minister Shimon Peres and PLO official Abou Abbas</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ime Minister Yitzhak Rabin and PLO Chairman Yasir Arafat shook hands</a:t>
            </a:r>
            <a:endParaRPr b="0" lang="en-US" sz="2000" spc="-1" strike="noStrike">
              <a:solidFill>
                <a:srgbClr val="ffffff"/>
              </a:solidFill>
              <a:latin typeface="Garamond"/>
            </a:endParaRPr>
          </a:p>
        </p:txBody>
      </p:sp>
      <p:pic>
        <p:nvPicPr>
          <p:cNvPr id="131" name="il_fi" descr=""/>
          <p:cNvPicPr/>
          <p:nvPr/>
        </p:nvPicPr>
        <p:blipFill>
          <a:blip r:embed="rId2"/>
          <a:stretch/>
        </p:blipFill>
        <p:spPr>
          <a:xfrm>
            <a:off x="2438280" y="2819520"/>
            <a:ext cx="4046760" cy="2270160"/>
          </a:xfrm>
          <a:prstGeom prst="rect">
            <a:avLst/>
          </a:prstGeom>
          <a:ln w="0">
            <a:noFill/>
          </a:ln>
        </p:spPr>
      </p:pic>
      <p:sp>
        <p:nvSpPr>
          <p:cNvPr id="132" name=""/>
          <p:cNvSpPr/>
          <p:nvPr/>
        </p:nvSpPr>
        <p:spPr>
          <a:xfrm>
            <a:off x="1295280" y="5562720"/>
            <a:ext cx="6400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1600200" y="525780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day marks a shining moment of hope for the people of the Middle East; indeed, of the entire world“ -President Bill Clin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O?</a:t>
            </a:r>
            <a:endParaRPr b="1" lang="en-US" sz="4400" spc="-1" strike="noStrike">
              <a:solidFill>
                <a:srgbClr val="b9efee"/>
              </a:solidFill>
              <a:latin typeface="Garamond"/>
            </a:endParaRPr>
          </a:p>
        </p:txBody>
      </p:sp>
      <p:sp>
        <p:nvSpPr>
          <p:cNvPr id="135" name=""/>
          <p:cNvSpPr/>
          <p:nvPr/>
        </p:nvSpPr>
        <p:spPr>
          <a:xfrm>
            <a:off x="4800600" y="1295280"/>
            <a:ext cx="3733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ssir Arafat(1929-2004)</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Fun Fact! His full name is Mohammed Yasser Abdel Rahman Abdel Raouf Arafat al-Qudwa al-Husseini</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He was the chairman of the PLO</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Founded the Fatah political party in 1959</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Garamond"/>
              </a:rPr>
              <a:t>Received a Nobel-Peace Prize for his work with the Oslo Accord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609480" y="1371600"/>
            <a:ext cx="373392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itzchak Rabin(1922-1925)</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e was Involved in the Knesset before being elected Prime Minister of Israel</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e was later elected Prime Minister of the Israel Labor Party</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November 1995, an Israeli named Yigal Amir assassinated Prime Minister Rabin for his cooperation in the Accords</a:t>
            </a:r>
            <a:endParaRPr b="0" lang="en-US" sz="1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on a Nobel-Peace prize along with Shimon Peres for his accomplishments with the Oslo Accor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 descr=""/>
          <p:cNvPicPr/>
          <p:nvPr/>
        </p:nvPicPr>
        <p:blipFill>
          <a:blip r:embed="rId2"/>
          <a:stretch/>
        </p:blipFill>
        <p:spPr>
          <a:xfrm>
            <a:off x="990720" y="4800600"/>
            <a:ext cx="1981080" cy="1650960"/>
          </a:xfrm>
          <a:prstGeom prst="rect">
            <a:avLst/>
          </a:prstGeom>
          <a:ln w="0">
            <a:noFill/>
          </a:ln>
        </p:spPr>
      </p:pic>
      <p:pic>
        <p:nvPicPr>
          <p:cNvPr id="138" name="" descr=""/>
          <p:cNvPicPr/>
          <p:nvPr/>
        </p:nvPicPr>
        <p:blipFill>
          <a:blip r:embed="rId3"/>
          <a:stretch/>
        </p:blipFill>
        <p:spPr>
          <a:xfrm>
            <a:off x="5257800" y="4191120"/>
            <a:ext cx="2233440" cy="22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utcome</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The Oslo Accords angered many people on both sides which lead to much violence</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It was eventually violated and the negotiations for permantent peace were called off</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It has worsened the relations between the Israelis and Palestinians causing many deaths , which has produced even more angry people</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0:56:25Z</dcterms:created>
  <dc:creator>Effi</dc:creator>
  <dc:description/>
  <dc:language>en-US</dc:language>
  <cp:lastModifiedBy>Effi</cp:lastModifiedBy>
  <dcterms:modified xsi:type="dcterms:W3CDTF">2010-09-21T03:33:06Z</dcterms:modified>
  <cp:revision>9</cp:revision>
  <dc:subject/>
  <dc:title>Oslo Accords</dc:title>
</cp:coreProperties>
</file>